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DCD-85E0-4113-99EC-37E40846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FAB-E2B1-4342-A7BA-D5B039EF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D77-BAFE-47D0-9ED4-90CCF67A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207-07AC-496A-9FDE-D882FAB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028-E78E-494D-8980-BCB3951C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9A7-D5F3-4581-A284-F9A9E327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481-4DFD-4E54-9D10-55997FFE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0A4-D402-41D2-B25E-8129F5D8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C92-2ADC-416F-9B39-34B98F0E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341-D502-49CF-850A-63569862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8801-4F3F-4C41-B718-BDE90789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4711-E70D-4FD3-A8AE-16E6DCB6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AF93-DF96-467C-BECD-60A52B6E4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5643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ulimChe"/>
                <a:ea typeface="GulimChe"/>
              </a:rPr>
              <a:t>О КОСМОС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viki\AppData\Local\Microsoft\Windows\Temporary Internet Files\Content.IE5\M4P7N6CI\MCj04303170000[1].wmf"/>
          <p:cNvPicPr/>
          <p:nvPr/>
        </p:nvPicPr>
        <p:blipFill>
          <a:blip r:embed="rId1"/>
          <a:stretch/>
        </p:blipFill>
        <p:spPr>
          <a:xfrm>
            <a:off x="1643040" y="142920"/>
            <a:ext cx="57150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5214600"/>
            <a:ext cx="82864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этой огромной, 18-метровой кегле создаются перегрузки, которые космонавт испытывает во время полета. Сама она вращается по кругу, голова ее тоже вращается, внутри головы вращается кабина, а внутри кабины вращается кресло с космонав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643040" y="642960"/>
            <a:ext cx="605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3840" y="9288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проводятся тренировки под водой, станцию вместе с платформой, подготавливаемыми космонавтами и водолазами опускают под воду, в гидробассей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6160" y="285840"/>
            <a:ext cx="4113360" cy="61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050560" y="5373360"/>
            <a:ext cx="597564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работают в гидробассей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0760" y="1143000"/>
            <a:ext cx="4489200" cy="357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5000760" y="1143000"/>
            <a:ext cx="35226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0040" y="171432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же более 30 лет все космонавты готовясь к полету, к невесомости, тренируются в, так называемой, "летающей лаборатории". Это основной тренажер для отработки навыков работы в отсутствии притяжения к Зем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857840" y="307188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929120" y="714240"/>
            <a:ext cx="29527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живут космонавты в раке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0040" y="12139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нет воздуха, чтобы дышать, там нет воды, тем более там нет еды. Всё это загружается в космический корабль на земле и затем расходуется в полёте. В космосе ничего нет, кроме пустоты и солнечного света. Именно свет питает космический корабль через солнечные батар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64000" y="1341360"/>
            <a:ext cx="31305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13840" y="1000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рабле, все предметы, в том числе животные, находятся в состоянии невесомости. На земле все предметы обладают весом, они притягиваются к земной поверхности. В космосе этого нет. Внутри космического корабля все предметы закреплены на специальных держателях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аче бы они все л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C:\Documents and Settings\Admin\Рабочий стол\Новая папка (3)\m13.jpg"/>
          <p:cNvPicPr/>
          <p:nvPr/>
        </p:nvPicPr>
        <p:blipFill>
          <a:blip r:embed="rId1"/>
          <a:stretch/>
        </p:blipFill>
        <p:spPr>
          <a:xfrm>
            <a:off x="4572000" y="357120"/>
            <a:ext cx="40370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429080" y="428760"/>
            <a:ext cx="4500720" cy="6000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56760" y="1785960"/>
            <a:ext cx="37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ежда космонавта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фандр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о космонавты     надевают при запуске и спуске ракеты, когда выходят в открытый космо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357120" y="0"/>
            <a:ext cx="1219176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68240" y="357120"/>
            <a:ext cx="7589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571400" y="5571720"/>
            <a:ext cx="697212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запуске и спуске  ракеты космонавты ложатся в специальное «Лож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428840" y="5716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2560" y="100008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ще с давних времен люди стали думать над вопросами: «Что такое космос? Если жизнь на других планетах кроме планеты Земля?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огда ученые и конструкторы создали первый космический корабль «Восток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смический корабль – это сложная техническая система. И прежде чем посадить в него человека технику надо провери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5000760" y="642960"/>
            <a:ext cx="3733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едят космонавт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238560" cy="2428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952880" cy="3714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5357880"/>
            <a:ext cx="87868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дят космонавты продукты питания, которые хранятся в консервированном виде. Перед использованием консервы и тюбики разогревают, а пакеты с первым и вторым блюдами, разводят вод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чем человек полетел в космос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214880" y="1500120"/>
            <a:ext cx="3838680" cy="2214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8760" y="450072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1214280" y="1285920"/>
            <a:ext cx="22860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5840" y="485784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оме России космосом интересовались так же и американцы. Они так же использовали животных для испытания новой ракетной техники. Первой в Америке, на ракете «Рэд-Стоун», в космос полетела обезья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571840" y="100008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4357440"/>
            <a:ext cx="864396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дачного полета в космос животных, стала открытой дорога человеку к звёздам. Через 8 месяцев на таком же космическом корабле, на котором летали собаки Белка и Стрелка , в космос отправился и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апреля 1961 года в 6:07 с космодрома Байконур стартовала ракета-носитель "Восток«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первые в мире космический корабль с человеком на борту ворвался в простор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ленно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Мои документы\Рисунки\Фото\Космос. Фото\00018791.jpg"/>
          <p:cNvPicPr/>
          <p:nvPr/>
        </p:nvPicPr>
        <p:blipFill>
          <a:blip r:embed="rId1"/>
          <a:stretch/>
        </p:blipFill>
        <p:spPr>
          <a:xfrm>
            <a:off x="2071800" y="428760"/>
            <a:ext cx="530856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85480" y="5000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рабль пилотировал советский космонавт Юрий Алексеевич Гагари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н был первым человеком, который собственными глазами увидел, что Земля действительно круглая, действительно большей частью покрыта водой и действительно великолеп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8960" y="357120"/>
            <a:ext cx="33577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космонавт  Юрий Гагарин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43280" y="857160"/>
            <a:ext cx="3786480" cy="55548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285840" y="1571760"/>
            <a:ext cx="392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космическом корабле Восток-1 старший лейтенант Юрий Алексеевич Гагарин один раз облетел вокруг Зем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готовятся космонавты к полет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1320" y="5857560"/>
            <a:ext cx="80722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тренировок космонавтов используют тренажер – центрифугу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79534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7:50:45Z</dcterms:created>
  <dc:creator>Admin</dc:creator>
  <dc:description/>
  <dc:language>en-US</dc:language>
  <cp:lastModifiedBy>storm</cp:lastModifiedBy>
  <dcterms:modified xsi:type="dcterms:W3CDTF">2010-01-19T13:14:01Z</dcterms:modified>
  <cp:revision>74</cp:revision>
  <dc:subject/>
  <dc:title>Слайд 1</dc:title>
</cp:coreProperties>
</file>